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B2F46-FA33-4164-A30A-0241F422B553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1F704-0EC6-4B3A-BCFC-FBED79B52CC9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23E2E-2376-408F-9315-B8C367C520DE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5E105-04E0-4C62-B211-CB7397ED476B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E34CF-84B2-4E06-A1C5-216649225BE4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9C08C-0097-4859-A399-80556AD4A054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0B151-56E5-45D4-8583-A5C7CB042764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6D22-B12B-4C2A-8E50-230301B0C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AB48-0D5C-4388-95B1-ABE75DC99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5545-4B7A-4270-9D45-BC52F3F92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3AC7-C0A7-46FE-8432-1C891166B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B805-EA3B-4210-8C31-8CC17EE97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2420-5906-4534-B839-17457ED6F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5830-286B-49B3-A4DA-710593BA6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0E11-DE06-4665-BDE6-F460F3751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548A-A53A-445A-9209-F91E13F2E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66FA-7435-4323-A039-1DC878C7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125F-217C-4064-AB28-4CFABE1A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77A1-9826-4925-A673-45E4B7E4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C6607-47F5-4AEF-ABBD-28A456D90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cyclic &amp; Cyclic Electron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nthesis Overview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kvhs.nbed.nb.ca/gallant/biology/photosynth_summar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Rectangle 3" descr=""/>
          <p:cNvPicPr/>
          <p:nvPr/>
        </p:nvPicPr>
        <p:blipFill>
          <a:blip r:embed="rId1"/>
          <a:stretch/>
        </p:blipFill>
        <p:spPr>
          <a:xfrm>
            <a:off x="1957320" y="1600200"/>
            <a:ext cx="5227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igh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ccur on the </a:t>
            </a:r>
            <a:r>
              <a:rPr b="0" lang="en-CA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thylakoid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CA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embr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equire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igments capture light energy and excite e</a:t>
            </a:r>
            <a:r>
              <a:rPr b="0" lang="en-CA" sz="3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to a higher energy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lang="en-CA" sz="3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move down electron transpor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ADP is reduced to NAD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hemiosmotic generation of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DP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il.mahidol.ac.th/e-media/electrochemistry/web/pictures/nad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otinamide adenine dinucleotide 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enzyme used in anabolic reactions such as photo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Rectangle 3" descr=""/>
          <p:cNvPicPr/>
          <p:nvPr/>
        </p:nvPicPr>
        <p:blipFill>
          <a:blip r:embed="rId1"/>
          <a:stretch/>
        </p:blipFill>
        <p:spPr>
          <a:xfrm>
            <a:off x="4648320" y="1641600"/>
            <a:ext cx="4038480" cy="44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nthesis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vin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ccurs in the </a:t>
            </a:r>
            <a:r>
              <a:rPr b="0" lang="en-CA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stroma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light or the d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 cycle of enzyme-catalyzed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ses energy from the ATP and NADPH produced in the light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orms organic molecules from CO</a:t>
            </a:r>
            <a:r>
              <a:rPr b="0" lang="en-CA" sz="3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carbon fix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1T02:53:26Z</dcterms:created>
  <dc:creator>james</dc:creator>
  <dc:description/>
  <dc:language>en-US</dc:language>
  <cp:lastModifiedBy>rubina khan</cp:lastModifiedBy>
  <dcterms:modified xsi:type="dcterms:W3CDTF">2011-10-28T04:14:36Z</dcterms:modified>
  <cp:revision>85</cp:revision>
  <dc:subject/>
  <dc:title>Slide 1</dc:title>
</cp:coreProperties>
</file>